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66B-F7EC-476A-84BB-A83B4BA4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340-BEE9-4394-9F27-82D6B79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BC2-AB7B-490C-BF30-CD23FD96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2F8-FD59-4DD0-91F3-8D11EADE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B28-BE1D-48EA-9066-97C879A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D94-4095-4C7C-B926-BD7EB215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3F1F-F412-4E75-9A5C-0936196A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7F2-1A7E-4EEE-97BE-45AF3F0A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0C5-62FE-458B-B239-498553B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2B8-EC79-4023-AD68-2F088B1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F26-71F4-47A1-B258-6FD23F04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F58-1101-4EBB-B467-F6B1BDF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AB91-0CC5-4CB7-B994-B0C0C21FE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13372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黑体"/>
                <a:ea typeface="黑体"/>
              </a:rPr>
              <a:t>知荣辱  树新风  促和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80480" y="907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主题班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30481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说一说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6216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以辛勤劳动为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-2514600" y="291924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以好逸恶劳为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696080" cy="600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5400000">
            <a:off x="5486040" y="29718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以诚实守信为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5400000">
            <a:off x="-2743200" y="3003480"/>
            <a:ext cx="6324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以遵纪守法为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漫画解析：树立社会主义荣辱观(18)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 rot="5400000">
            <a:off x="-2743200" y="3003480"/>
            <a:ext cx="6324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以愚昧无知为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743200" y="3003480"/>
            <a:ext cx="632484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以眼高手低为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70" name="" descr="漫画解析：树立社会主义荣辱观(4)"/>
          <p:cNvPicPr/>
          <p:nvPr/>
        </p:nvPicPr>
        <p:blipFill>
          <a:blip r:embed="rId1"/>
          <a:stretch/>
        </p:blipFill>
        <p:spPr>
          <a:xfrm>
            <a:off x="826920" y="58680"/>
            <a:ext cx="83170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890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中华民族是个优秀的民族，有着五千年文化历史的民族，早在两千多年前，古人就提出了“礼、义、廉、耻”道德观，到了宋代，又有了以“孝、悌、忠、信、礼、义、廉、耻”为内容的“八德”，并成为中华的传统美德主要内容。在当代社会，到底应以什么为荣，以什么为耻？总书记提出的“八荣八耻”为公民道德树起了新的标杆，将中华民族传统美德与时代精神有机结合起来，既体现了对传统美德的继承，又反映了时代的要求。面对“八荣八耻”，我们要怎么办，要把它作为自己的潜意识行为，从自身一言一行、一点一滴做起，上到国家领导人，下到普通老百姓都要“八荣八耻”作为标准，把“八荣八耻”作为一个基因，融入到自己的血液中，让它无时无刻不在影响、规范自己。把“八荣八耻”作为中华民族实现伟大复兴的精神动力，让每个中国人都为自己是中国人而自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343400" y="685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践行八荣八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00200"/>
            <a:ext cx="7848360" cy="36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八荣八耻，从我做起”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47640" y="2924280"/>
            <a:ext cx="5562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宣誓仪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63640" y="692280"/>
            <a:ext cx="7740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e6440a"/>
                </a:solidFill>
                <a:latin typeface="隶书"/>
                <a:ea typeface="隶书"/>
              </a:rPr>
              <a:t>八荣八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热爱祖国为荣，以危害祖国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服务人民为荣，以背离人民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崇尚科学为荣，以愚昧无知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辛勤劳动为荣，以好逸恶劳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团结互助为荣，以损人利己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诚实守信为荣，以见利忘义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遵纪守法为荣，以违法乱纪为耻；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以艰苦奋斗为荣，以骄奢淫逸为耻。</a:t>
            </a:r>
            <a:br>
              <a:rPr sz="3600"/>
            </a:br>
            <a:r>
              <a:rPr b="1" lang="zh-CN" sz="3600" spc="-1" strike="noStrike">
                <a:solidFill>
                  <a:srgbClr val="e6440a"/>
                </a:solidFill>
                <a:latin typeface="宋体"/>
              </a:rPr>
              <a:t>                  ——胡锦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18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295200"/>
            <a:ext cx="7201080" cy="70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高一（２０）班级十荣十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一、以遵规守纪刻苦学习为荣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以迟到旷课不求上进为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二、以专心听讲记好笔记为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以不知学习上课睡觉为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三、以热爱科学认真钻研为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以厌学弃学不求甚解为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四、以尊敬老师团结同学为荣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以顶撞老师损人利己为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五、以服从命令雷厉风行为荣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以我行我素懒散拖沓为耻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266760" y="312372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六、以按时作息尊重别人为荣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以夜不归寝打扰别人为耻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七、以崇尚文明热爱集体为荣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以打架骂人破坏班风为耻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八、以讲究卫生爱护环境为荣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以乱扔乱吐破坏环境为耻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九、以勤俭节约珍惜钱物为荣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以铺张浪费吸烟酗酒为耻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十、以勤学向上感恩父母为荣  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   以荒废学业忘恩负义为耻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16765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人云：不知荣辱乃不能成人。胡锦涛总书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在看望政协委员时提出以“八荣八耻”为具体内容的荣辱观，推陈出新，为我国公民道德建设树起了新的标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560" y="1447920"/>
            <a:ext cx="1642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八耻八荣解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1628640"/>
            <a:ext cx="6858000" cy="19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八荣八耻大讨论</a:t>
            </a:r>
            <a:endParaRPr b="0" lang="en-US" sz="1800" spc="1" strike="noStrike">
              <a:ln w="2556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156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6440a"/>
                </a:solidFill>
                <a:latin typeface="Times New Roman"/>
                <a:ea typeface="隶书"/>
              </a:rPr>
              <a:t>                 </a:t>
            </a:r>
            <a:r>
              <a:rPr b="1" lang="zh-CN" sz="4000" spc="-1" strike="noStrike">
                <a:solidFill>
                  <a:srgbClr val="e6440a"/>
                </a:solidFill>
                <a:latin typeface="Times New Roman"/>
                <a:ea typeface="隶书"/>
              </a:rPr>
              <a:t>是她们让国歌奏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95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5400000">
            <a:off x="-2335320" y="284796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中宋"/>
              </a:rPr>
              <a:t>以崇尚科学为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29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1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6440a"/>
                </a:solidFill>
                <a:latin typeface="Arial"/>
                <a:ea typeface="隶书"/>
              </a:rPr>
              <a:t>一位同学拧紧正在滴水的水龙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17000" y="0"/>
            <a:ext cx="1155240" cy="73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6440a"/>
                </a:solidFill>
                <a:latin typeface="Times New Roman"/>
                <a:ea typeface="隶书"/>
              </a:rPr>
              <a:t>他利用周末时间为邻居家的阿姨做护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1:46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8:49Z</dcterms:modified>
  <cp:revision>1</cp:revision>
  <dc:subject>主题班会课件(分28大类): http://shop62905894.taobao.com</dc:subject>
  <dc:title>主题班会课件(分28大类): http://shop62905894.taobao.com</dc:title>
</cp:coreProperties>
</file>